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whoosh.wav" ContentType="audio/x-wav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3BEE-AEAB-4B4F-98D6-4714AFE2C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076D-1D0A-4A59-82B3-814384D88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8B99-DA26-4F1E-A9BD-9C7BDA48C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BBF6-CDC2-433C-9EBB-B60BCDFCF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E5B1-1513-43E8-A6CE-4651D09B46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28F3-8FD0-43CC-A8F6-ABD623F66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7276-2C78-409B-8A54-4F200474B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AC5F-DA9E-4673-B1F5-590F9186ED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5F47-447B-4714-9C2D-8C94D093C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240" y="1634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B935-5889-4159-AA8B-FB68B85188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CDE8-6852-41DA-B63B-6D0E48DB9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5E10-BEFB-49B3-988E-1E3C8D405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D8D2-2323-4C98-ABC4-840E6B12B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65A9-92F8-4614-8A33-411CBFBB6B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5655-ABF1-4DC6-B731-1FA7062FC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32E7-A10E-47FF-9FB9-EBF9B781AD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9ECC-11D5-4A55-972F-6A194E65E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AC61-A8C0-49C6-8A9F-3051A209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AD8F-92F6-441E-9AF3-A143B6A9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853A-5932-4980-8FBE-BCB93D745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6344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7E0E-C07D-4295-86CA-ECCCC6285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C0A5-B9C0-488F-8CDA-53B0CE93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F360-2F20-4D17-A5D6-DD68A4BB7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16BF-8E04-4BB5-BDDA-4556C139B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11C89-4AD7-4195-AFD1-7DBE43B66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6344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0F3DBC-F8CF-41FA-80F2-A9FA398DC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daptation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How have these animals these adapted to their environmen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57004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62120" y="380880"/>
            <a:ext cx="274320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c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 rot="16860000">
            <a:off x="5293440" y="1948320"/>
            <a:ext cx="3427200" cy="3200400"/>
          </a:xfrm>
          <a:prstGeom prst="upArrowCallout">
            <a:avLst>
              <a:gd name="adj1" fmla="val 12881"/>
              <a:gd name="adj2" fmla="val 9142"/>
              <a:gd name="adj3" fmla="val 17977"/>
              <a:gd name="adj4" fmla="val 522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prickles on a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cactus are it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leaves. It has ver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small leave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does not loos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As much moistur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is w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209680"/>
            <a:ext cx="2666880" cy="2133720"/>
          </a:xfrm>
          <a:prstGeom prst="rightArrowCallout">
            <a:avLst>
              <a:gd name="adj1" fmla="val 10566"/>
              <a:gd name="adj2" fmla="val 12870"/>
              <a:gd name="adj3" fmla="val 23354"/>
              <a:gd name="adj4" fmla="val 73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 sto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Water in the it’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Very wid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Fleshy ste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60000">
            <a:off x="2747520" y="4952880"/>
            <a:ext cx="3733920" cy="1676520"/>
          </a:xfrm>
          <a:prstGeom prst="upArrowCallout">
            <a:avLst>
              <a:gd name="adj1" fmla="val 24811"/>
              <a:gd name="adj2" fmla="val 21777"/>
              <a:gd name="adj3" fmla="val 19843"/>
              <a:gd name="adj4" fmla="val 579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The Cactus h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Very long roots that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Draw moisture from dee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whoosh.wav"/>
                            </p:tgtEl>
                          </p:cMediaNode>
                        </p:audio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me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long legs to keep body away from hot san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store fat in hu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go for long periods without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92720" y="2060640"/>
            <a:ext cx="2592360" cy="3960720"/>
            <a:chOff x="5292720" y="2060640"/>
            <a:chExt cx="2592360" cy="3960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292720" y="2060640"/>
              <a:ext cx="2592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292720" y="2060640"/>
              <a:ext cx="2592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me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an close nostrils to keep out san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long eyelashes to keep out san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Many blood vessels just under the skin to cool the bloo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762440" y="2433600"/>
            <a:ext cx="3581640" cy="3210120"/>
            <a:chOff x="4762440" y="2433600"/>
            <a:chExt cx="3581640" cy="321012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762440" y="2433600"/>
              <a:ext cx="3581640" cy="32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440" y="2433600"/>
              <a:ext cx="3581640" cy="32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white fur for camouflag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ach hair is hollow for extra insulatio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sharp teeth and claws to catch and eat prey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ridged foot pads to prevent slipp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2514600"/>
            <a:ext cx="3809880" cy="3048120"/>
            <a:chOff x="4648320" y="2514600"/>
            <a:chExt cx="3809880" cy="30481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648320" y="2514600"/>
              <a:ext cx="38098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8320" y="2514600"/>
              <a:ext cx="380988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engui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as thick layer of fat to keep war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roduces oil to keep feathers waterproof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tream lined body for swimm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86280" y="1500120"/>
            <a:ext cx="2428920" cy="4159440"/>
            <a:chOff x="5786280" y="1500120"/>
            <a:chExt cx="2428920" cy="41594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86280" y="1500120"/>
              <a:ext cx="2428920" cy="41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786280" y="1500120"/>
              <a:ext cx="2428920" cy="41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Golden Eagl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wing span for glid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harp talons for catching and holding prey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Hooked beak for tearing mea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eyes for spotting prey from great distanc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10000"/>
            <a:ext cx="3809880" cy="2857320"/>
            <a:chOff x="4648320" y="2610000"/>
            <a:chExt cx="3809880" cy="28573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648320" y="2610000"/>
              <a:ext cx="38098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48320" y="2610000"/>
              <a:ext cx="380988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Shark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tream lined body for swimm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Fins to propel through the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harp tee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Gills to breath under wat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48320" y="2747880"/>
            <a:ext cx="3809880" cy="2581200"/>
            <a:chOff x="4648320" y="2747880"/>
            <a:chExt cx="3809880" cy="25812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47880"/>
              <a:ext cx="380988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648320" y="2747880"/>
              <a:ext cx="3809880" cy="25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Ostric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ong legs to run fas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rge eyes to see long distanc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ong feathers to provide more shade to eggs and to keep body warm at nig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92720" y="2133720"/>
            <a:ext cx="2592360" cy="3959280"/>
            <a:chOff x="5292720" y="2133720"/>
            <a:chExt cx="2592360" cy="395928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292720" y="2133720"/>
              <a:ext cx="25923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92720" y="2133720"/>
              <a:ext cx="259236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4:30:10Z</dcterms:created>
  <dc:creator>alice</dc:creator>
  <dc:description/>
  <dc:language>en-US</dc:language>
  <cp:lastModifiedBy>Pitchford</cp:lastModifiedBy>
  <dcterms:modified xsi:type="dcterms:W3CDTF">2007-02-05T15:33:45Z</dcterms:modified>
  <cp:revision>8</cp:revision>
  <dc:subject/>
  <dc:title>Adaptation </dc:title>
</cp:coreProperties>
</file>